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E156-BD0D-4167-9533-8A82E344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50D9-B04B-4743-A2D8-77F11773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F03C-D8D3-426D-84D9-7AB17EEA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D5D1-6A1E-490E-A801-A883096D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117B-73EB-40CC-B480-C87FA433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E7AF-5602-4A4B-875F-21815876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CC72-0205-4B77-A10B-3242AFA9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926E-A6A2-401D-85D5-B548133A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5610-FC48-4589-8766-68679491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604C-2512-42FB-9A33-45D1EADE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0B1E-024B-4D4E-B26E-9D531EC5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8730-E0FE-4530-BA73-31D15276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E6D8-281D-4135-A55F-337B3E6D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3B25-FDA3-40BB-9B95-B4D8EA15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68BF-E07A-4330-91A7-D0B1BC4D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72C5-06DB-444C-A92A-6D73C6AF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2D9D-FF34-4EB8-9D12-7BD8899C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1189-30AE-4BCF-B04F-69F67B35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A5C0-2473-49A3-AF91-4E636A92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1FB4-3CEC-428E-AF49-6F3D12FD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3497-8377-44BF-8C37-C208AFF4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8633-7ED7-43D1-BB74-8BA1C2FA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58C7-C81A-494E-ABAC-61D967BF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601D-2214-4ECD-823E-2BD281A8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9CD9-7D03-47AA-82A3-538835B7D0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F90B-A9DD-4C5A-AF9E-574798C9F5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YTHON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FLANNERY DEARBO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857240" cy="1844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2190600" cy="3276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6934320" y="228600"/>
            <a:ext cx="196200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 YOU LIKE PYTHONS? IF SO READ ON TO LEARN MORE ON PYTHONS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47920" y="5105520"/>
            <a:ext cx="185400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YTHONS LIVE IN TREES AND CAVE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PYTHONS LIVE IN TREES TO PROTECT  THEM SELVES FROM BIGGER ANIM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YTHONS DON’T LIVE IN S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181480" y="4191120"/>
            <a:ext cx="36576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YTHONS CAN GROW UP TO 7 FEET IN LENGTH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CAN GROW BIGGER THAN 7 FEE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2865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YTHONS ARE GREEN, REDDISH, ORANGE, AND YELLOW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YTHONS CAN NOT CHANGE COLORS LIKE CHAMELE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188136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YTHONS CAN LIVE FOR 50 YEARS! WOW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PYTHONS WERE TOLD TO BE 80 YEARS OLD BEFORE DIYING!!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IKES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2284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 NOW THAT YOU HAVE LEARNED A LITTLE ABOUT PY THONS, YOU KNOW NOW  THAT PYTHONS ARE REALLY COOL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2081160" cy="3120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276720" y="4343400"/>
            <a:ext cx="2743200" cy="22068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5943600" y="3048120"/>
            <a:ext cx="1994040" cy="13366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7238880" y="5029200"/>
            <a:ext cx="1649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2T19:29:06Z</dcterms:modified>
  <cp:revision>3</cp:revision>
  <dc:subject/>
  <dc:title>Animal Name</dc:title>
</cp:coreProperties>
</file>